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596A-ED17-422F-8D6C-FCA41B64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9F9F-0853-4E08-94BA-4635A5D0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501C-3563-461A-B574-ED5D6458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CACF-C419-43AB-8C65-8FCDB10A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9C76-BBE9-4366-8F43-9B146DFD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33D-C749-4B76-B9CE-EBA9DA7F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9A8C-20EB-41D1-BE48-3C596D3D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3217-0A06-402C-8320-7C946901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F9F0-1DC5-4027-B2DA-2F9F49D0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85EA-372A-4D5F-96EF-176C346B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CD34-A606-4904-B16B-FD549677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491F-CA47-44B0-8974-9A51330C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E19C-8A1F-4EC3-A196-C5121D4850B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1360" y="4000680"/>
            <a:ext cx="7715160" cy="24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6000" spc="-1" strike="noStrike">
                <a:solidFill>
                  <a:srgbClr val="000000"/>
                </a:solidFill>
                <a:latin typeface="Castellar"/>
              </a:rPr>
              <a:t>CULTURAL GEOGRAPH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8"/>
          <p:cNvSpPr/>
          <p:nvPr/>
        </p:nvSpPr>
        <p:spPr>
          <a:xfrm>
            <a:off x="611280" y="5229360"/>
            <a:ext cx="46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Mentifacts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tells us what we ought to believe, what we should value and how we ought to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al integration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the interlocking nature of all aspects of a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al Integration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means that any cultural object or act may have a number of mean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714320"/>
            <a:ext cx="89298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6600" spc="-1" strike="noStrike">
                <a:solidFill>
                  <a:srgbClr val="000000"/>
                </a:solidFill>
                <a:latin typeface="comic"/>
              </a:rPr>
              <a:t>CULTURE CHANG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Culture change is induc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Accult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"/>
              </a:rPr>
              <a:t>Innov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es changes to the culture that result from ideas created within the social group itself and adopted by the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y b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ed in improvement in material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ment of nonmaterial form of social structure and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PH" sz="3600" spc="-1" strike="noStrike">
                <a:solidFill>
                  <a:srgbClr val="000000"/>
                </a:solidFill>
                <a:latin typeface="Arial"/>
              </a:rPr>
              <a:t>All innovations has a radiating impact upon the web of culture; the more basic the innovation, the more pervasive its consequ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600" spc="-1" strike="noStrike">
                <a:solidFill>
                  <a:srgbClr val="000000"/>
                </a:solidFill>
                <a:latin typeface="Arial"/>
              </a:rPr>
              <a:t>Agricultural R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e Hearth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use to describe those restricted areas of innovation from which key culture elements diffused to exert an influence on surrounding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7200" spc="-1" strike="noStrike">
                <a:solidFill>
                  <a:srgbClr val="000000"/>
                </a:solidFill>
                <a:latin typeface="comic"/>
              </a:rPr>
              <a:t>Diffus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Two process of diffusion is involve in diff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000000"/>
                </a:solidFill>
                <a:latin typeface="Arial"/>
              </a:rPr>
              <a:t>People move to a new area and take their culture with them</a:t>
            </a:r>
            <a:r>
              <a:rPr b="1" lang="en-PH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000000"/>
                </a:solidFill>
                <a:latin typeface="Arial"/>
              </a:rPr>
              <a:t>The spread of information about an innovation throughout a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000000"/>
                </a:solidFill>
                <a:latin typeface="Arial"/>
              </a:rPr>
              <a:t>Syncretism-</a:t>
            </a:r>
            <a:r>
              <a:rPr b="0" lang="en-PH" sz="2800" spc="-1" strike="noStrike">
                <a:solidFill>
                  <a:srgbClr val="000000"/>
                </a:solidFill>
                <a:latin typeface="Arial"/>
              </a:rPr>
              <a:t> the process of the fusion of old and new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400" spc="-1" strike="noStrike">
                <a:solidFill>
                  <a:srgbClr val="000000"/>
                </a:solidFill>
                <a:latin typeface="comic"/>
              </a:rPr>
              <a:t>ACCULTU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00040" y="142884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Process by which one culture group undergoes a major modification by adopting many of the characteristics of another, usually dominant, cultur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5400" spc="-1" strike="noStrike">
                <a:solidFill>
                  <a:srgbClr val="000000"/>
                </a:solidFill>
                <a:latin typeface="Baskerville Old Face"/>
              </a:rPr>
              <a:t>CULTURAL DIVERS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Ethn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4400" spc="-1" strike="noStrike">
                <a:solidFill>
                  <a:srgbClr val="000000"/>
                </a:solidFill>
                <a:latin typeface="Arial"/>
              </a:rPr>
              <a:t>Culture – </a:t>
            </a:r>
            <a:r>
              <a:rPr b="0" lang="en-PH" sz="4400" spc="-1" strike="noStrike">
                <a:solidFill>
                  <a:srgbClr val="000000"/>
                </a:solidFill>
                <a:latin typeface="Arial"/>
              </a:rPr>
              <a:t>is as much a part of the regional differentiation of the earth  as are topography, climate, and other aspects of physical environm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7200" spc="-1" strike="noStrike">
                <a:solidFill>
                  <a:srgbClr val="000000"/>
                </a:solidFill>
                <a:latin typeface="Baskerville Old Face"/>
              </a:rPr>
              <a:t>LANGUAG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6600" spc="-1" strike="noStrike">
                <a:solidFill>
                  <a:srgbClr val="000000"/>
                </a:solidFill>
                <a:latin typeface="comic"/>
              </a:rPr>
              <a:t>LANGUAG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- defined simply as an organized system of speech by which people communicate with each other with mutual comprehe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-most important medium by which culture is transmit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-can be both a cause and a symbol of cultural differenti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Language 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0" i="1" lang="en-PH" sz="3200" spc="-1" strike="noStrike">
                <a:solidFill>
                  <a:srgbClr val="000000"/>
                </a:solidFill>
                <a:latin typeface="Arial"/>
              </a:rPr>
              <a:t>linguistic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family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a group of languages thought to have a common origin in a single, earlier ton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Subfamilies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or bran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Social dialects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denotes social class and educational levels, with speakers of higher socioeconomic status or educational achievement most likely to follow the norms of their standard langu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Vernacular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nonstandard language or dialect adopted by the social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Linguistic Geography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the study of character and spatial pattern of geographic, or regional dial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Pidgin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is an amalgam of languages, usually a simplified form of one of them, with borrowings from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- Characterized by a highly simplified grammatical structure and a sharply reduced vocabulary adequate to express basic ideas but not complex 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reole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invariably acquire a more complex grammatical structure and enhanced vocabul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Lingua franca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established language used habitually for communication by people whose native tongues are mutually incomprehen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PH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8000" spc="-1" strike="noStrike">
                <a:solidFill>
                  <a:srgbClr val="000000"/>
                </a:solidFill>
                <a:latin typeface="Baskerville Old Face"/>
              </a:rPr>
              <a:t>RELIG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comic"/>
              </a:rPr>
              <a:t>CLASSIFICATION AND DISTRIBUTION OF RELI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Monotheism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belief in a single de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Polytheism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belief in many g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UNIVERSALIZING RELIG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Budd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Universalizing Religions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is open to anyone who chooses to make a symbolic commi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4400" spc="-1" strike="noStrike">
                <a:solidFill>
                  <a:srgbClr val="000000"/>
                </a:solidFill>
                <a:latin typeface="Castellar"/>
              </a:rPr>
              <a:t>COMPONENTS OF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e traits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are units of learned behaviour ranging from the language spoken to the tools used or to the games played. (object, technique, attitu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e complex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individual culture traits that are functionally inter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Ethnic Religions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have strong territorial and cultural group ident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one becomes a member </a:t>
            </a: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birth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by adoption of a complex lifestyle and cultural identity, not by a simple declaration of fa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Tribal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(or traditional) </a:t>
            </a: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religions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special forms of ethnic religions distinguished by their small size, heir unique identity with localized culture groups not yet fully absorbed into modern society and their close ties to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Animism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life exist in all objects, from rocks and trees and lakes and mountains or that such objects are the abode of the  dead, of spirits, and of g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Shamanism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form of tribal religion that involves community acceptance of a shaman who, through special powers, can intercede with and interpret the spirit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Secularism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an indifference to or rejection of religion and religious belief, is an increasing part of many modern societies, particularly of the industrialized countries and those now or recently under communist reg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PH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5000"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7200" spc="-1" strike="noStrike">
                <a:solidFill>
                  <a:srgbClr val="000000"/>
                </a:solidFill>
                <a:latin typeface="Baskerville Old Face"/>
              </a:rPr>
              <a:t>THE PRINCIPAL RELIG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JUDA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HINDU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BUDD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6000" spc="-1" strike="noStrike">
                <a:solidFill>
                  <a:srgbClr val="000000"/>
                </a:solidFill>
                <a:latin typeface="Baskerville Old Face"/>
              </a:rPr>
              <a:t>JUDAIS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-laid the foundation for  both Christianity and Isl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-closely identified with a single ethnic group and with a complex and restrictive set of belief and la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6000" spc="-1" strike="noStrike">
                <a:solidFill>
                  <a:srgbClr val="000000"/>
                </a:solidFill>
                <a:latin typeface="Baskerville Old Face"/>
              </a:rPr>
              <a:t>CHRISTIAN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-its origin is in the life and teachings of Jesus(a Jewish preacher of the 1</a:t>
            </a:r>
            <a:r>
              <a:rPr b="0" lang="en-PH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century of the modern era, whim his followers believed was a messiah promised by Go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- Missions was </a:t>
            </a: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onversion,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missionary work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was critical in its diff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e system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a larger spatial reality and general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e region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a portion of the earth’s surface occupied by people sharing recognizable and distinctive cultural characteris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e realm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the term recognizes s large segment of the earth’s surface having fundamental uniformity in its cultural characteristics and showing a significant difference in them from adjacent real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000000"/>
                </a:solidFill>
                <a:latin typeface="Castellar"/>
              </a:rPr>
              <a:t>INTERACTION OF PEOPLE AND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al ecology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the study of the relationship between a culture group and the natural environment it occup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download (1).jpg"/>
          <p:cNvPicPr/>
          <p:nvPr/>
        </p:nvPicPr>
        <p:blipFill>
          <a:blip r:embed="rId1"/>
          <a:stretch/>
        </p:blipFill>
        <p:spPr>
          <a:xfrm>
            <a:off x="1714680" y="3143160"/>
            <a:ext cx="3929040" cy="3143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600" spc="-1" strike="noStrike">
                <a:solidFill>
                  <a:srgbClr val="000000"/>
                </a:solidFill>
                <a:latin typeface="Castellar"/>
              </a:rPr>
              <a:t>ENVIRONMENTS AS CONTR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Environmental determinism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the belief that the physical environment by itself shapes humans, the actions, and their thou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Possibilism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 people are the dynamic forces of cultural develop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4400" spc="-1" strike="noStrike">
                <a:solidFill>
                  <a:srgbClr val="000000"/>
                </a:solidFill>
                <a:latin typeface="Castellar"/>
              </a:rPr>
              <a:t>SUBSYSTEMS OF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Technological subsystems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composed of the material objects and the techniques of their use by means of which people are able to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Sociological subsystem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the sum of those expected and accepted patterns of interpersonal relations that find their outlet in economic, political, military, religious, kinship, and other associ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Ideological subsystem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consist of the ideas, beliefs, and knowledge of a culture and of the ways in which they are expressed in speech or other forms of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(Mythologies, theologies, legend, literature, philosophy, folk, wisdom &amp; commonsense knowled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irish</cp:lastModifiedBy>
  <dcterms:modified xsi:type="dcterms:W3CDTF">2012-09-30T16:56:22Z</dcterms:modified>
  <cp:revision>774</cp:revision>
  <dc:subject/>
  <dc:title>Diapositiva 1</dc:title>
</cp:coreProperties>
</file>